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olicy_text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logo_eu_dunkel"/>
          <p:cNvPicPr/>
          <p:nvPr/>
        </p:nvPicPr>
        <p:blipFill>
          <a:blip r:embed="rId3"/>
          <a:stretch/>
        </p:blipFill>
        <p:spPr>
          <a:xfrm>
            <a:off x="7308720" y="179280"/>
            <a:ext cx="1548000" cy="873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title_policy"/>
          <p:cNvPicPr/>
          <p:nvPr/>
        </p:nvPicPr>
        <p:blipFill>
          <a:blip r:embed="rId4"/>
          <a:stretch/>
        </p:blipFill>
        <p:spPr>
          <a:xfrm>
            <a:off x="0" y="0"/>
            <a:ext cx="2271600" cy="1176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1"/>
          <p:cNvSpPr/>
          <p:nvPr/>
        </p:nvSpPr>
        <p:spPr>
          <a:xfrm>
            <a:off x="1015920" y="6067440"/>
            <a:ext cx="793908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olicy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logo_eu"/>
          <p:cNvPicPr/>
          <p:nvPr/>
        </p:nvPicPr>
        <p:blipFill>
          <a:blip r:embed="rId3"/>
          <a:stretch/>
        </p:blipFill>
        <p:spPr>
          <a:xfrm>
            <a:off x="7308720" y="179280"/>
            <a:ext cx="154800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title_policy"/>
          <p:cNvPicPr/>
          <p:nvPr/>
        </p:nvPicPr>
        <p:blipFill>
          <a:blip r:embed="rId4"/>
          <a:stretch/>
        </p:blipFill>
        <p:spPr>
          <a:xfrm>
            <a:off x="2268360" y="1170000"/>
            <a:ext cx="5740560" cy="226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79280" y="5067360"/>
            <a:ext cx="864072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. Derzelle (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ctorate General for Agriculture and Rural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50920" y="395136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8: Main anomalies identified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Output tables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,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15th March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extmaster_policy"/>
          <p:cNvPicPr/>
          <p:nvPr/>
        </p:nvPicPr>
        <p:blipFill>
          <a:blip r:embed="rId1"/>
          <a:stretch/>
        </p:blipFill>
        <p:spPr>
          <a:xfrm>
            <a:off x="0" y="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440" y="1414440"/>
            <a:ext cx="7889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3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bles O.214(1) and 225(1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nditures New (of which)  = expenditures realized in Year N / No cumulativ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nditures Existing  =  expenditures realized from 2007 to Year N / cumulativ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fore, Existing contains Ne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113" t="29543" r="12500" b="21979"/>
          <a:stretch/>
        </p:blipFill>
        <p:spPr>
          <a:xfrm>
            <a:off x="552600" y="3435480"/>
            <a:ext cx="5724360" cy="3117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242760" y="596736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Ex. O.214(1) and O.225(1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 Screening by R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4040" y="11998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). 2008 Annual Progress Repor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08 tables scre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ast year, the Contact Point of the EN RD is screening the Monitoring Indicator tables from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anomalies by RDP will be available by Mid-Ap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 AGRI and the CP is also working on snapshots/synthetic analysis of the 2008 monitoring indicators (results to be published in the EN RD web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1081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anks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79280" y="4967280"/>
            <a:ext cx="8640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ate General for Agriculture and Rural Development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Consistency between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560" y="1260360"/>
            <a:ext cx="7773840" cy="398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ues from G3 (col. E); G3(2) (Col. E); G4; G5 (col. E and F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147760"/>
            <a:ext cx="7773840" cy="398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ues in O.xxx tabl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40600" y="15987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0600" y="25988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560" y="3147840"/>
            <a:ext cx="7773840" cy="398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umulative data from 2007 to 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9960" y="3652920"/>
            <a:ext cx="737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List of the cross-checks made by DG AGRI is based on this ru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26960" y="4400640"/>
            <a:ext cx="8454600" cy="2253960"/>
            <a:chOff x="426960" y="4400640"/>
            <a:chExt cx="8454600" cy="22539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0" t="14397" r="4910" b="55295"/>
            <a:stretch/>
          </p:blipFill>
          <p:spPr>
            <a:xfrm>
              <a:off x="426960" y="4400640"/>
              <a:ext cx="845460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4920" y="4400640"/>
              <a:ext cx="938160" cy="2247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34320" y="405936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Ex: G3 col.E  = O.xxx values (1/2) = cumulative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35120" y="102960"/>
            <a:ext cx="48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Consistency between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6815" r="27209" b="41522"/>
          <a:stretch/>
        </p:blipFill>
        <p:spPr>
          <a:xfrm>
            <a:off x="361800" y="1806480"/>
            <a:ext cx="8782200" cy="402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51600" y="5138640"/>
            <a:ext cx="1046160" cy="290520"/>
          </a:xfrm>
          <a:prstGeom prst="rect">
            <a:avLst/>
          </a:prstGeom>
          <a:noFill/>
          <a:ln cap="sq"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24840" y="5121360"/>
            <a:ext cx="841320" cy="320760"/>
          </a:xfrm>
          <a:prstGeom prst="rect">
            <a:avLst/>
          </a:prstGeom>
          <a:noFill/>
          <a:ln cap="sq"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6640" y="138744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Ex: G3 col.E  = O.xxx values (2/2) = cumulative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Consistency between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560" y="1646280"/>
            <a:ext cx="7773840" cy="398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ues from G3 (col. D); G3(2) (Col. D); G5 (col. D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40600" y="19843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6200" y="27320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ff3300"/>
                </a:solidFill>
                <a:latin typeface="Arial"/>
              </a:rPr>
              <a:t>≠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2444760"/>
            <a:ext cx="7773840" cy="398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ealised in year 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680" y="4202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Ex: G3 col.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9200" y="4524480"/>
            <a:ext cx="8425080" cy="2093760"/>
            <a:chOff x="349200" y="4524480"/>
            <a:chExt cx="8425080" cy="20937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14397" r="4910" b="55295"/>
            <a:stretch/>
          </p:blipFill>
          <p:spPr>
            <a:xfrm>
              <a:off x="349200" y="4524480"/>
              <a:ext cx="842508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23040" y="4524480"/>
              <a:ext cx="934920" cy="208728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46200" y="3535200"/>
            <a:ext cx="7773840" cy="398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808080"/>
                </a:solidFill>
                <a:latin typeface="Arial"/>
              </a:rPr>
              <a:t>Values in O.xxx tabl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36800" y="3036960"/>
            <a:ext cx="365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8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" y="11556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The exceptio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Cumulative approach for LFA, AEM, Afforestation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4040" y="1199880"/>
            <a:ext cx="831528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. Multi-annual measures and cumulativ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ot done properly, It could generate misleadin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. Total EU-27 LFA Ha supported, 65 Million Ha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inally reach 455 M ha in 2013 but the total UAA in EU-27 is only 172 M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9280" y="3632040"/>
          <a:ext cx="8332920" cy="98928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  <a:gridCol w="1042920"/>
                <a:gridCol w="1014480"/>
                <a:gridCol w="1068480"/>
                <a:gridCol w="1041480"/>
                <a:gridCol w="10414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 supported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 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920960" y="3097080"/>
            <a:ext cx="4987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i="1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" y="5319720"/>
            <a:ext cx="78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ound 10-15 RDP had applied this in their 2008 tables for LFA and/or AE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Cumulative approach for LFA, AEM, Afforestation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4040" y="1199880"/>
            <a:ext cx="83152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Multi-annual measures and cumulat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ach for output is the following*: retrieving the supported areas reported Year N-1 and adding ONLY the new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yments are them aggregated through th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3520" y="3257640"/>
          <a:ext cx="8764560" cy="2597040"/>
        </p:xfrm>
        <a:graphic>
          <a:graphicData uri="http://schemas.openxmlformats.org/drawingml/2006/table">
            <a:tbl>
              <a:tblPr/>
              <a:tblGrid>
                <a:gridCol w="752400"/>
                <a:gridCol w="1131840"/>
                <a:gridCol w="1103400"/>
                <a:gridCol w="1190520"/>
                <a:gridCol w="1175040"/>
                <a:gridCol w="1162080"/>
                <a:gridCol w="1145880"/>
                <a:gridCol w="110340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 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a / 10 Hold/10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a / 10 Hold/10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a / 10 Hold/10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a / 10 Hold/10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a / 10 Hold/10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 B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a / 2 hold/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a / 2 hold/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a / 2 hold/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a / 2 hold/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a / 2 hold/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a / 2 hold/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 C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ha / 5 hold/5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ha / 5 hold/5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ha / 5 hold/5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s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a / 10 hold/10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ha / hold/2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ha / 12 hold/36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ha / 12 hold/49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ha / 17 hold/67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ha / 17 hold/75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ha / 17 hold/8300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734400" y="6419880"/>
            <a:ext cx="666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(for both G tables and O.xxx tables except for G3, G3(2) and G5 col D.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280" y="2786040"/>
            <a:ext cx="79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AEM Ha and Holdings supported + payments mad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Old / New commit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0440" y="1414440"/>
            <a:ext cx="7237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ituation has been clarified in the Output template used in 20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Only new commit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3(2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Only old commit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4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Both commitments / No distinc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Both commitments / No distinc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.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xx tab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New commitments / Old commitments only when specified and only in separated row (Commitments from previous programming periods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xcept f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.LFA = Both commitments / No distinc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.214(1) = Only New commitm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.AGRI-ENV = Only old commitments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98440" y="123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44840" y="17424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Old / New commit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-127" t="16097" r="35886" b="39997"/>
          <a:stretch/>
        </p:blipFill>
        <p:spPr>
          <a:xfrm>
            <a:off x="189000" y="1911240"/>
            <a:ext cx="8715240" cy="464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5919840"/>
            <a:ext cx="3846600" cy="9381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20760" y="142416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put tables O.xxx: rows for old commit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17560" y="142560"/>
            <a:ext cx="48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31694" t="30312" r="10431" b="27274"/>
          <a:stretch/>
        </p:blipFill>
        <p:spPr>
          <a:xfrm>
            <a:off x="4176720" y="4105440"/>
            <a:ext cx="4967280" cy="2838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9880" y="1211400"/>
            <a:ext cx="789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1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nditur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 Realized by the M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clared to the European Commissio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 by ’000 EUR (except for G4!!!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2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bles O.214(1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ysical area (net area) ≤ Total area support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ysical area (net area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≤ Total UA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56880" y="634536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Ex. O.214(1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05:55:14Z</dcterms:created>
  <dc:creator>Peter Wehrheim</dc:creator>
  <dc:description/>
  <dc:language>en-US</dc:language>
  <cp:lastModifiedBy>nadoldo</cp:lastModifiedBy>
  <cp:lastPrinted>2001-03-28T07:57:24Z</cp:lastPrinted>
  <dcterms:modified xsi:type="dcterms:W3CDTF">2010-03-11T18:28:10Z</dcterms:modified>
  <cp:revision>679</cp:revision>
  <dc:subject/>
  <dc:title>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87642888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